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20.gif" ContentType="image/gif"/>
  <Override PartName="/ppt/media/image18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png" ContentType="image/png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A6A-ADCE-42EF-89C0-05296891FB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B13-84C3-4051-9F78-814631AD1F3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90F-0677-4327-B27B-9E1DA3A1636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D9CE-C1FC-442A-B0FB-4A536A88096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3C7-7F19-4E76-9DEE-4528B8D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C66-F1FF-4624-8018-FEF514C3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78283-4C90-42DF-A697-8ED8EB2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AE7FD-4942-4B19-906E-913E322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BD38-7BEC-4924-ADB2-4C9B658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C66C3-FDD2-4D52-99C7-7F76EEB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BEAC9-CC2D-41A6-9223-A3D7F9A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E06EB-023E-4565-8459-0F0FB1FA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D17B3-1F59-40A8-B3FB-E14E222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7075-A05E-45A1-8438-708C63FA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14A3C-9611-4CFB-AC32-8F87E25E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62379-2E63-434E-8917-BCE9100B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7FF-9869-4CCD-AAD6-35CA7298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721F-32CD-4CDC-B917-88BF23E5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85975-0B8C-418D-BD01-368F34AC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857CA-9E72-42BE-8BFB-D52B9DD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4508D-D48F-4117-8ECA-A8742839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D5410-E1DE-42B5-AFC1-2A9A651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16DC-00C2-4A27-95D0-971470D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0550E-E12E-44D5-A58D-245B1C1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F624-8B28-41ED-A894-F541B1B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634F7-41EF-4D0F-A673-63F0D29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E19D9-3EF3-4DDA-85CF-39F0945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31B-DDCB-4B8E-8E8E-AF731B92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70CB-E6BF-48E7-A1E4-2BBDA305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77068-4E3A-4DD4-BFC2-07D0EAF9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049F1-C946-47D8-AA3C-95C6BE4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2F46-C4AE-411B-9D87-525F5DD5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5A45-ACE0-46D1-B72F-8E98482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51E4D-D266-429B-8FA1-CF3F322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352D3-4A67-4A54-B7A9-903063B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B095-379E-40F8-BD74-A5573E3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DCA7A-403A-492D-B4FC-948B53E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4FF8E-386B-45C2-9894-372391D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E30-EB50-474A-9D4F-F8DA9452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65642-03B7-4AEA-8BAF-5942046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0A91A-9918-4003-96B0-D8359512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C82C-87B7-4916-978B-3E9E3E18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A63B84-7482-4A4D-895F-B6ADD574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CD844-C3B6-4DA0-ADEE-20808A2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5706E-9684-4B85-913C-64AEDDF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5C52D1-26E8-427C-A759-DEC10A3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EFFCD0-442C-452B-AAD9-8EF80B9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781F6B-1B11-4CBF-8C3B-284E608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1F3C15-05F2-4A8B-9D53-F02BF9E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186B-8357-4115-A677-8A2F461C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86CC6C-678A-4978-9BF6-AA501C3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52250D-C24E-4F7C-BB7C-6D91C4D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3908D9-B6A7-4E34-BB9D-D642E61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D4423E-13E5-4BA3-A7C0-3C12646C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70EE13-D433-4071-AA30-1026017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7C89B-5789-4E67-981C-41C01714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90A45-474F-4F17-A522-D97C9618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5F8C-792A-4C06-8392-0A55928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5AF3B-D103-4E8F-AE93-BB53060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71379-2049-4AD0-9D46-C9D5BE7F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44D-6BF4-4053-BA50-9E7C275D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B44BD-7AFD-4E17-BB29-B8FA34D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A0D1F-1C94-472A-B44E-93E48DA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EFB74-6348-4E1F-9E5A-63AF73B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AED4A-DF3A-4F61-964F-49DC785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94A57-EBC1-48FF-BADD-7022397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5C1A6-28F3-4DCA-B382-E7D6F6D7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7851F-D0C2-4A5D-B6BB-20D4053D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06257-6C3C-47FE-A934-0D688CE7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D457B-7D1E-4D8A-8FF5-B92638F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E38F6-2AED-4E27-B7B9-17D9A07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D8F7-FA9A-46B2-A746-0FF8F6A4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1CFDC-968A-48E2-8CF3-305CA0A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99997-5A83-45C2-8C9C-8FE42299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0F668-B3F0-4A88-8B2B-8A89FF9F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A486D-B288-4B25-800A-164B7A5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77EA2-0611-49AB-8484-9375B65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58BC3-9AE2-4577-8E37-3DD908BF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2EACB-E8F0-43A7-89BF-9FC6A9F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AABB2-5138-413F-BC7D-75372CE0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4FF41-1146-402D-8888-3241F239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FEA6C-BF76-4340-9FAF-0E9539B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504-5D01-4EB5-B2EE-E4668DD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D0F8E-BFB9-4068-8BAC-E97954FA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FB95B-901A-4C04-B087-27F36D36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CA949-BDF7-460E-8FF4-A00FF6C6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41AD8-93A2-4886-B64E-A11B0EBF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70E1D-39C7-4072-80D0-5F2C246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F67A8-1996-4E68-895A-0409E54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E8EDC-761E-4533-AA44-984D294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84B72-0F05-48E9-907D-07BEB103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2F38B-B489-49CB-9CEF-9216D28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7F8AA-229E-4176-8E5B-33D3D20C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CA43-559C-44B8-BD79-01EB9309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D6630-5175-49BC-AEEE-F0027E78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21E5-CB68-4811-99A7-D2D4B63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9E0-50CE-4C25-A929-27CF62D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223F-4419-4D17-890C-000AC16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A388-83BC-4038-AF17-4A0480C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190-6D4E-4346-85CD-1D586ACA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468-EC5B-4C4F-9BF1-DBD83794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1803-9B05-455E-88E4-10F1F9C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1CF1-A9C2-44E2-B07E-2165717E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945D-E9DF-4B57-AC0C-41C9A968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07A9-0BFA-4490-BD9E-DC32456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214F-7904-476A-8BAD-8205FFC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1C37-987F-4BEA-83F1-A8F48D5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751-B66F-4D93-9C54-EA9CFB3C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04CC-B5E7-4A92-9463-29602B8D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A65E-B089-4072-A80D-1A017C5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C0A2-0E60-4A5D-9D89-D5B8B05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4B4E-AA41-4780-BB7B-2B0A2A8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50D6-38D4-44A2-A05D-EB53D2D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65E4-D97D-44F0-94F3-425EEC05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985C-9567-458D-B980-A2C605DF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0004-7F44-4B9E-8774-679B3C56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9F86-41E9-427F-985D-88C9B587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B4D4-82FE-41C6-A794-424B21B7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21F-821E-4637-8E16-C8B2CB9F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3561-0507-4AD9-93AD-337A5953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D903-CA4C-45FF-A811-2BBFB8E8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160C-3E15-471A-B843-3F3C38D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9FBD-19B1-4487-9442-5331985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F3E7-9B07-4482-82D4-25EB725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64D3-FB33-4A5D-B579-DCB68C6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A189-6CEC-4C5A-936B-49B45FD7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5DC02-5243-4569-96D9-98DAE67F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A903-7E87-41A6-8C7E-E952920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9935-1BDF-427C-9C2E-C80DFD07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70B-B312-4E2D-9DB9-4FEDB14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574B-619B-4282-9114-5BAC517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69D7-76FB-4D44-8A93-F340486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144D-2E56-4ECC-B777-B259EE2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F359-1EBE-43E5-957D-CCF07D9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D740-355D-4A40-B58B-EBE461F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C645-A1FD-48E1-A46D-1DD3961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9E9A-F527-4A2D-9C6F-6EF3CF4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6E60-AB23-406A-B995-EB342FFF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7934-2941-4BC0-9074-B17A46AA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7AD1-70EC-46B2-B906-70513BE6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324-B3C6-4139-9293-364D82E9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5C95-C2DC-4461-AF8A-0F01D879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6E39-1EFB-41FC-A319-A69B7975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116F-13F9-4647-9691-AAEC2DC4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70A9-A291-4A9C-B786-7DF2B12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3DFF-FCF1-4914-B70B-5A93FB6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7EAC-305D-435E-892C-BBE85F1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EADC-46B6-443F-9F36-33067BA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D73B-B179-4C20-B55D-04C3C31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2C21-31CE-42FF-9AD1-CDA8AF0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85B31-CE7A-4396-90D6-ACC0E76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223-4F5D-4C63-BB73-807EFE9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1206-46FA-4C5E-B9F4-7D35A939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26B6-A97F-41DD-A7B5-4BB49B90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15D0-D431-4324-875A-D1869012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5C774-151C-425D-B437-AFCF8BCE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D93CB-CF6A-4492-8777-A7BF8D3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EF084-E072-41D9-96C9-D167C9F1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53F2-89B5-485A-8FD7-6305FEDE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6C94-7C5F-4CED-B6AD-E405B5B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2CAD-1C4C-4ADF-A705-FD78F8F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77513-F6AF-4A86-803F-17B9ECE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DD0-C699-4FA6-8B0A-2732C39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A75A-54EB-4B28-9D26-B6E7EF8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B17B-250C-4A7E-8C5D-0CDD751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3A50-A989-461B-AA1A-5F7A869E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A618-5A49-4171-9B06-C7DFD812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DFE4-FEB3-4443-9937-8A418235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AE4D2-78FF-467E-80CF-2DCF2FEA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11AE-EE62-426A-A47E-8A34E15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2240-7EBE-4AE7-B5E1-F4BBF87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491E-38BF-425A-B60A-AFD20AB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377E4-DA0C-428B-9637-E162C92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8E1-E177-4A2C-8ACC-C2B58E6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94D6-7ADA-441D-AE1C-24F8B77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4E5A-7B8A-4381-9FC4-91EF3A6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87C1-10E7-474E-A60A-BB174C8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C6B44-2C8A-4E1F-8E11-49EBB92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4DFC-2D24-4F19-B851-292C1C3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7CA31-C3C5-4058-81C5-EF36487E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163E-2E81-4BD6-89A8-21857F7C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81BBA-5E79-4F4D-AE39-656958E8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326AB-C79D-4ADF-8483-4BF7FA24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91AA-F190-4B0A-9D57-1C19AED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EA8-045C-4AF1-85D2-D835EBC0F7B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07" name="Group 3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6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11" name="Freeform 7"/>
              <p:cNvSpPr/>
              <p:nvPr/>
            </p:nvSpPr>
            <p:spPr>
              <a:xfrm>
                <a:off x="822240" y="2865600"/>
                <a:ext cx="398520" cy="24732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"/>
              <p:cNvSpPr/>
              <p:nvPr/>
            </p:nvSpPr>
            <p:spPr>
              <a:xfrm>
                <a:off x="81000" y="2809800"/>
                <a:ext cx="48420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"/>
              <p:cNvSpPr/>
              <p:nvPr/>
            </p:nvSpPr>
            <p:spPr>
              <a:xfrm>
                <a:off x="485640" y="2427120"/>
                <a:ext cx="196920" cy="4413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0"/>
              <p:cNvSpPr/>
              <p:nvPr/>
            </p:nvSpPr>
            <p:spPr>
              <a:xfrm>
                <a:off x="789120" y="2809800"/>
                <a:ext cx="43308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"/>
              <p:cNvSpPr/>
              <p:nvPr/>
            </p:nvSpPr>
            <p:spPr>
              <a:xfrm>
                <a:off x="299880" y="3208320"/>
                <a:ext cx="395280" cy="2919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2"/>
              <p:cNvSpPr/>
              <p:nvPr/>
            </p:nvSpPr>
            <p:spPr>
              <a:xfrm>
                <a:off x="817560" y="3062160"/>
                <a:ext cx="190440" cy="4492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3"/>
              <p:cNvSpPr/>
              <p:nvPr/>
            </p:nvSpPr>
            <p:spPr>
              <a:xfrm>
                <a:off x="291960" y="3057480"/>
                <a:ext cx="198720" cy="44280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147600" y="2478240"/>
                <a:ext cx="933480" cy="9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BEC-426B-4485-9288-9FC1AF759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858-0D46-4F93-B560-3D8423BBC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8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12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1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2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AA2-5B37-41F3-9390-9393F0D18735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69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678" name="Freeform 12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5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6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7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685" name="Freeform 19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0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1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2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3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4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692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3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FCB8-2682-49C7-9835-D169E917EFC3}" type="slidenum">
              <a:rPr b="0" lang="en-AU" sz="1400" spc="-1" strike="noStrike">
                <a:solidFill>
                  <a:srgbClr val="dddddd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740" name="Freeform 3"/>
            <p:cNvSpPr/>
            <p:nvPr/>
          </p:nvSpPr>
          <p:spPr>
            <a:xfrm>
              <a:off x="1419120" y="220680"/>
              <a:ext cx="1636920" cy="6642000"/>
            </a:xfrm>
            <a:prstGeom prst="pie">
              <a:avLst/>
            </a:pr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4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742" name="Freeform 5"/>
              <p:cNvSpPr/>
              <p:nvPr/>
            </p:nvSpPr>
            <p:spPr>
              <a:xfrm>
                <a:off x="0" y="0"/>
                <a:ext cx="2898720" cy="68580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6"/>
              <p:cNvSpPr/>
              <p:nvPr/>
            </p:nvSpPr>
            <p:spPr>
              <a:xfrm>
                <a:off x="2344680" y="758880"/>
                <a:ext cx="585720" cy="212400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7"/>
              <p:cNvSpPr/>
              <p:nvPr/>
            </p:nvSpPr>
            <p:spPr>
              <a:xfrm>
                <a:off x="1849320" y="2890800"/>
                <a:ext cx="814680" cy="218124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8"/>
              <p:cNvSpPr/>
              <p:nvPr/>
            </p:nvSpPr>
            <p:spPr>
              <a:xfrm>
                <a:off x="2224080" y="5154480"/>
                <a:ext cx="282600" cy="170820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9"/>
              <p:cNvSpPr/>
              <p:nvPr/>
            </p:nvSpPr>
            <p:spPr>
              <a:xfrm>
                <a:off x="2286000" y="0"/>
                <a:ext cx="434880" cy="60948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0"/>
              <p:cNvSpPr/>
              <p:nvPr/>
            </p:nvSpPr>
            <p:spPr>
              <a:xfrm>
                <a:off x="1987560" y="3571920"/>
                <a:ext cx="365040" cy="533520"/>
              </a:xfrm>
              <a:prstGeom prst="pi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"/>
              <p:cNvSpPr/>
              <p:nvPr/>
            </p:nvSpPr>
            <p:spPr>
              <a:xfrm>
                <a:off x="2608200" y="536400"/>
                <a:ext cx="246240" cy="368640"/>
              </a:xfrm>
              <a:prstGeom prst="pi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8F5-730B-4910-8408-22BDB787073B}" type="slidenum">
              <a:rPr b="0" lang="en-AU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791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4e0035"/>
                </a:gs>
                <a:gs pos="100000">
                  <a:srgbClr val="99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3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F73-6C8D-4BE8-B7E1-841D3CEFDFDB}" type="slidenum">
              <a:rPr b="0" lang="en-AU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48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51000" y="16344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219240" y="365040"/>
              <a:ext cx="210960" cy="1414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52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09200" y="18900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677440" y="390600"/>
              <a:ext cx="210960" cy="141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56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821800" y="633564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0040" y="6537240"/>
              <a:ext cx="210960" cy="1414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60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38040" y="6361200"/>
              <a:ext cx="19548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206280" y="6562800"/>
              <a:ext cx="211320" cy="141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00" name="Group 3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5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104" name="Freeform 7"/>
              <p:cNvSpPr/>
              <p:nvPr/>
            </p:nvSpPr>
            <p:spPr>
              <a:xfrm>
                <a:off x="822240" y="6141960"/>
                <a:ext cx="398520" cy="2476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81000" y="6086520"/>
                <a:ext cx="48420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485640" y="5703840"/>
                <a:ext cx="196920" cy="4413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789120" y="6086520"/>
                <a:ext cx="43308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299880" y="6485040"/>
                <a:ext cx="395280" cy="2919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2"/>
              <p:cNvSpPr/>
              <p:nvPr/>
            </p:nvSpPr>
            <p:spPr>
              <a:xfrm>
                <a:off x="817560" y="6338880"/>
                <a:ext cx="190440" cy="4492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291960" y="6334200"/>
                <a:ext cx="198720" cy="44280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4"/>
              <p:cNvSpPr/>
              <p:nvPr/>
            </p:nvSpPr>
            <p:spPr>
              <a:xfrm>
                <a:off x="147600" y="5754600"/>
                <a:ext cx="933480" cy="9493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89F-5D09-4DE9-A682-0DF730391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258F-D92D-4DD5-A7EF-5B4B07030A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7AD-008F-493B-9B8A-E19F27FE943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262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270" name="Freeform 11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2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4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5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6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277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84" name="Freeform 25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8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9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0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291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549-6BF2-45CD-8D72-B5B7BC55EE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339" name="Freeform 3"/>
            <p:cNvSpPr/>
            <p:nvPr/>
          </p:nvSpPr>
          <p:spPr>
            <a:xfrm>
              <a:off x="123840" y="220680"/>
              <a:ext cx="1630440" cy="6637320"/>
            </a:xfrm>
            <a:prstGeom prst="pie">
              <a:avLst/>
            </a:pr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"/>
            <p:cNvSpPr/>
            <p:nvPr/>
          </p:nvSpPr>
          <p:spPr>
            <a:xfrm>
              <a:off x="0" y="0"/>
              <a:ext cx="1630440" cy="68580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5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342" name="Freeform 6"/>
            <p:cNvSpPr/>
            <p:nvPr/>
          </p:nvSpPr>
          <p:spPr>
            <a:xfrm>
              <a:off x="1049400" y="760320"/>
              <a:ext cx="585720" cy="212724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554040" y="2895480"/>
              <a:ext cx="814320" cy="218772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928800" y="5165640"/>
              <a:ext cx="282600" cy="169380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990720" y="0"/>
              <a:ext cx="434880" cy="61128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692280" y="3579840"/>
              <a:ext cx="365040" cy="534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1312920" y="538200"/>
              <a:ext cx="245880" cy="36828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A269-4E49-4BE5-A186-543E7E7AC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390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4e0035"/>
                </a:gs>
                <a:gs pos="100000">
                  <a:srgbClr val="99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4DE-B65E-4A83-BFED-3EA61CE31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5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434" name="Oval 6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425520" y="16020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190440" y="3697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9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438" name="Oval 10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3143160" y="109440"/>
              <a:ext cx="25416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2908440" y="318960"/>
              <a:ext cx="25056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3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442" name="Oval 14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336600" y="6307200"/>
              <a:ext cx="2538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101520" y="65167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7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446" name="Oval 18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"/>
            <p:cNvSpPr/>
            <p:nvPr/>
          </p:nvSpPr>
          <p:spPr>
            <a:xfrm>
              <a:off x="8731080" y="147600"/>
              <a:ext cx="25416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8496360" y="3571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1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450" name="Oval 22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832960" y="633240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597880" y="65419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454" name="Oval 26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5873760" y="122400"/>
              <a:ext cx="25416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"/>
            <p:cNvSpPr/>
            <p:nvPr/>
          </p:nvSpPr>
          <p:spPr>
            <a:xfrm>
              <a:off x="5638680" y="3319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458" name="Oval 30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336600" y="320832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101520" y="341784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33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462" name="Oval 34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8807400" y="3335400"/>
              <a:ext cx="25416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6"/>
            <p:cNvSpPr/>
            <p:nvPr/>
          </p:nvSpPr>
          <p:spPr>
            <a:xfrm>
              <a:off x="8572680" y="3544920"/>
              <a:ext cx="25056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2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4" descr="P7230009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5"/>
          <p:cNvSpPr/>
          <p:nvPr/>
        </p:nvSpPr>
        <p:spPr>
          <a:xfrm>
            <a:off x="1835280" y="126828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Arial"/>
              </a:rPr>
              <a:t>BEHAVIOUR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Arial"/>
              </a:rPr>
              <a:t>ADAPT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ffff"/>
                </a:solidFill>
                <a:latin typeface="Arial"/>
              </a:rPr>
              <a:t>Behaviour in Pl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ffff"/>
                </a:solidFill>
                <a:latin typeface="Arial"/>
              </a:rPr>
              <a:t>(Or is it physiologic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 a horizontal seedling, auxin accumulates (settles) along the lower horizontal part of the shoot (due to gravity) causing the cells in that part to grow f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ence, the shoot turns up away from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 the roots, it is the upper part that grows faster so that the root turns downwards towards gravity.  Auxin slows the cell growth in the 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ff3300"/>
                </a:solidFill>
                <a:latin typeface="Times New Roman"/>
              </a:rPr>
              <a:t>Geotropism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is the plant responding to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hoots show negative geotrop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oots show positive geotrop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response of plants to distribution of auxins allows plants to orient themselves to a more favourable position within their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do tropisms assist the plant in photosynth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9" name="Picture 5" descr="images7.jpg"/>
          <p:cNvPicPr/>
          <p:nvPr/>
        </p:nvPicPr>
        <p:blipFill>
          <a:blip r:embed="rId1"/>
          <a:stretch/>
        </p:blipFill>
        <p:spPr>
          <a:xfrm>
            <a:off x="5929200" y="2214720"/>
            <a:ext cx="25718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ff00"/>
                </a:solidFill>
                <a:latin typeface="Times New Roman"/>
              </a:rPr>
              <a:t>CLIMBING PLAN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99ccff"/>
                </a:solidFill>
                <a:latin typeface="Times New Roman"/>
              </a:rPr>
              <a:t>Thigmotropism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is the change in growth because of contact with another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xplain what would be happening in regard to the distribution of auxin in a climbing plant when it comes in contact with another object.  How does auxin contribute to thigmotrop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RHYTHMIC ACTIVITIE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nts, like animals exhibit a range of rhythmic behavi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4" name="Picture 5" descr="Flower-03.gif"/>
          <p:cNvPicPr/>
          <p:nvPr/>
        </p:nvPicPr>
        <p:blipFill>
          <a:blip r:embed="rId1"/>
          <a:stretch/>
        </p:blipFill>
        <p:spPr>
          <a:xfrm>
            <a:off x="642960" y="3786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Flower-04.gif"/>
          <p:cNvPicPr/>
          <p:nvPr/>
        </p:nvPicPr>
        <p:blipFill>
          <a:blip r:embed="rId2"/>
          <a:stretch/>
        </p:blipFill>
        <p:spPr>
          <a:xfrm>
            <a:off x="2857680" y="3786120"/>
            <a:ext cx="2095200" cy="20955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7" descr="Flower-04.gif"/>
          <p:cNvPicPr/>
          <p:nvPr/>
        </p:nvPicPr>
        <p:blipFill>
          <a:blip r:embed="rId3"/>
          <a:stretch/>
        </p:blipFill>
        <p:spPr>
          <a:xfrm>
            <a:off x="6786720" y="3643200"/>
            <a:ext cx="2095200" cy="2095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8" descr="Flower-03.gif"/>
          <p:cNvPicPr/>
          <p:nvPr/>
        </p:nvPicPr>
        <p:blipFill>
          <a:blip r:embed="rId4"/>
          <a:stretch/>
        </p:blipFill>
        <p:spPr>
          <a:xfrm>
            <a:off x="4786200" y="378612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RHYTHMIC 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ccff"/>
                </a:solidFill>
                <a:latin typeface="Times New Roman"/>
              </a:rPr>
              <a:t>Time as a stimul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imes New Roman"/>
              </a:rPr>
              <a:t>Biological clock</a:t>
            </a: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 – the internal clock or timing system for sleep patterns.  The sleep pattern occurs every 24 hour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An activity that follows a 24 hour cycle is called a </a:t>
            </a:r>
            <a:r>
              <a:rPr b="1" lang="en-AU" sz="2800" spc="-1" strike="noStrike">
                <a:solidFill>
                  <a:srgbClr val="ff99cc"/>
                </a:solidFill>
                <a:latin typeface="Times New Roman"/>
              </a:rPr>
              <a:t>Circadian Rhythm</a:t>
            </a: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 (or circadian cycl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Plant behaviours that follow a circadian rhythm – opening and closing of flowers, nectar and perfume produ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This movement is independent of the direction of the stimulus –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</a:rPr>
              <a:t>Nastic Movement</a:t>
            </a:r>
            <a:r>
              <a:rPr b="0" lang="en-A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80" name="Picture 5" descr="mr_alarm_clock_jumping_md_clr.gif"/>
          <p:cNvPicPr/>
          <p:nvPr/>
        </p:nvPicPr>
        <p:blipFill>
          <a:blip r:embed="rId1"/>
          <a:stretch/>
        </p:blipFill>
        <p:spPr>
          <a:xfrm>
            <a:off x="7643880" y="142884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RHYTHMIC 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3300"/>
                </a:solidFill>
                <a:latin typeface="Times New Roman"/>
              </a:rPr>
              <a:t>Solar Tracking or Heliotropis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eaves and flowers that are able to move during the day so they are oriented either perpendicular or parallel to the sun’s direct ray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g. Sun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How can heliotropism as a behaviour assist in surviv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83" name="Picture 5" descr="daisy_button_blue_md_clr.gif"/>
          <p:cNvPicPr/>
          <p:nvPr/>
        </p:nvPicPr>
        <p:blipFill>
          <a:blip r:embed="rId1"/>
          <a:stretch/>
        </p:blipFill>
        <p:spPr>
          <a:xfrm>
            <a:off x="5143680" y="43578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6" descr="butterflies and flowers.bmp"/>
          <p:cNvPicPr/>
          <p:nvPr/>
        </p:nvPicPr>
        <p:blipFill>
          <a:blip r:embed="rId2"/>
          <a:stretch/>
        </p:blipFill>
        <p:spPr>
          <a:xfrm>
            <a:off x="700092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Rose-05.gif"/>
          <p:cNvPicPr/>
          <p:nvPr/>
        </p:nvPicPr>
        <p:blipFill>
          <a:blip r:embed="rId3"/>
          <a:stretch/>
        </p:blipFill>
        <p:spPr>
          <a:xfrm>
            <a:off x="7286760" y="4357800"/>
            <a:ext cx="10285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iming of Flow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lative length of day and night is the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sponse of plants to particular periods of light and dark is calle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length of day and night to which a plant is exposed is very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Picture 5" descr="Rose-02.gif"/>
          <p:cNvPicPr/>
          <p:nvPr/>
        </p:nvPicPr>
        <p:blipFill>
          <a:blip r:embed="rId1"/>
          <a:stretch/>
        </p:blipFill>
        <p:spPr>
          <a:xfrm>
            <a:off x="7786800" y="3571920"/>
            <a:ext cx="1143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otoperiodism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differs betwee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Short day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Chrysanthemums flower only when the day length is shorter than some critical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Long day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Carnations flower only when day lengths are longer than certain critical mini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cc"/>
                </a:solidFill>
                <a:latin typeface="Arial"/>
              </a:rPr>
              <a:t>Day neutral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Dandelion flower regardless of the length of the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Picture 5" descr="cool_carrot_md_clr.gif"/>
          <p:cNvPicPr/>
          <p:nvPr/>
        </p:nvPicPr>
        <p:blipFill>
          <a:blip r:embed="rId1"/>
          <a:stretch/>
        </p:blipFill>
        <p:spPr>
          <a:xfrm>
            <a:off x="7358040" y="528624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6" descr="natu008.gif"/>
          <p:cNvPicPr/>
          <p:nvPr/>
        </p:nvPicPr>
        <p:blipFill>
          <a:blip r:embed="rId2"/>
          <a:stretch/>
        </p:blipFill>
        <p:spPr>
          <a:xfrm>
            <a:off x="7858080" y="10000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would classify plants that flower in the sp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though the terms short-day and long-day plants suggests the exposure to light is critical.  The length of darkness is also very cri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5" descr="Hemp-02.gif"/>
          <p:cNvPicPr/>
          <p:nvPr/>
        </p:nvPicPr>
        <p:blipFill>
          <a:blip r:embed="rId1"/>
          <a:stretch/>
        </p:blipFill>
        <p:spPr>
          <a:xfrm>
            <a:off x="7072200" y="1214280"/>
            <a:ext cx="152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ample – Cocklebur (short-day plant) would only flower when the dark period exceeded nine hours; the day length does not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n the cocklebur is exposed to even a brief flash of light during the dark period, the plant no longer flo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interrupted dark is important for flow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ort-day plants are really long-night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ng-day plants are really short-night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Picture 5" descr="natu008.gif"/>
          <p:cNvPicPr/>
          <p:nvPr/>
        </p:nvPicPr>
        <p:blipFill>
          <a:blip r:embed="rId1"/>
          <a:stretch/>
        </p:blipFill>
        <p:spPr>
          <a:xfrm>
            <a:off x="285840" y="428760"/>
            <a:ext cx="866520" cy="12477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6" descr="Rose-05.gif"/>
          <p:cNvPicPr/>
          <p:nvPr/>
        </p:nvPicPr>
        <p:blipFill>
          <a:blip r:embed="rId2"/>
          <a:stretch/>
        </p:blipFill>
        <p:spPr>
          <a:xfrm>
            <a:off x="7643880" y="1143000"/>
            <a:ext cx="1028520" cy="81900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7" descr="daisy_button_blue_md_clr.gif"/>
          <p:cNvPicPr/>
          <p:nvPr/>
        </p:nvPicPr>
        <p:blipFill>
          <a:blip r:embed="rId3"/>
          <a:stretch/>
        </p:blipFill>
        <p:spPr>
          <a:xfrm>
            <a:off x="8001000" y="52862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What stimuli impact on plants and how do plants respond as a resu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The effect of environmental stimuli on plants and their effect on 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hythmic activities of plants in response to external stimu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99cc"/>
                </a:solidFill>
                <a:latin typeface="Times New Roman"/>
                <a:ea typeface="Arial"/>
              </a:rPr>
              <a:t>Plant Behavi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3300"/>
                </a:solidFill>
                <a:latin typeface="Arial"/>
              </a:rPr>
              <a:t>Phytochrom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light sensitive pigments in leaves react to a photoperiod that is appropriate for the particular pl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a result, the leaves produce a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is hormone then travels to buds which then 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otoperiod can also be important in breaking the dormancy of seeds and other parts of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Picture 5" descr="daylight_savings_clock_jumping_md_clr.gif"/>
          <p:cNvPicPr/>
          <p:nvPr/>
        </p:nvPicPr>
        <p:blipFill>
          <a:blip r:embed="rId1"/>
          <a:stretch/>
        </p:blipFill>
        <p:spPr>
          <a:xfrm>
            <a:off x="7000920" y="1000080"/>
            <a:ext cx="20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xternal factors, such as light, gravity and touch, exert an influence on plant growth and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growth of a plant in response to a stimulus such as light or water is called a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en a plant grows towards a stimulus, it is termed a positive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en a plant grows away from a stimulus, it is termed a negative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Picture 5" descr="butterflies and flowers.bmp"/>
          <p:cNvPicPr/>
          <p:nvPr/>
        </p:nvPicPr>
        <p:blipFill>
          <a:blip r:embed="rId1"/>
          <a:stretch/>
        </p:blipFill>
        <p:spPr>
          <a:xfrm>
            <a:off x="6786720" y="0"/>
            <a:ext cx="1261800" cy="12621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Tree-01.gif"/>
          <p:cNvPicPr/>
          <p:nvPr/>
        </p:nvPicPr>
        <p:blipFill>
          <a:blip r:embed="rId2"/>
          <a:stretch/>
        </p:blipFill>
        <p:spPr>
          <a:xfrm>
            <a:off x="3214800" y="4915080"/>
            <a:ext cx="150012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imes New Roman"/>
              </a:rPr>
              <a:t>Light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en a plant moves in response to light, it shows phototrop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vement towards the light is a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sitive phototrop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2" name="Picture 5" descr="daisy_button_blue_md_clr.gif"/>
          <p:cNvPicPr/>
          <p:nvPr/>
        </p:nvPicPr>
        <p:blipFill>
          <a:blip r:embed="rId1"/>
          <a:stretch/>
        </p:blipFill>
        <p:spPr>
          <a:xfrm>
            <a:off x="928800" y="214200"/>
            <a:ext cx="1666800" cy="16671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Tree-01.gif"/>
          <p:cNvPicPr/>
          <p:nvPr/>
        </p:nvPicPr>
        <p:blipFill>
          <a:blip r:embed="rId2"/>
          <a:stretch/>
        </p:blipFill>
        <p:spPr>
          <a:xfrm>
            <a:off x="5500800" y="2786040"/>
            <a:ext cx="32320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vestigations by Charles Darwin which had covered and uncovered growth tips of plants showed the tip had an influence that passed from the tip to the area where bending occu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– a plant hormone is produced in the tip of a coleoptile and causes growth of cells in the coleopt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tip is the site of reception of the light stimul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growing region below the tip is the eff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moves away from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influences the growth rate of plant cells.  More auxin, increased growth 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en a seedling is evenly illuminated, auxin is evenly distributed throughout the growth ti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en light is concentrated on one side of the plant, auxin moves away from the light, to the darker side of the t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Increased concentration of auxin in one side of the plant results in accelerated growth (elongated growth) of the cells on that s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uneven growth of cells results in bending of the pl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images3.jpg"/>
          <p:cNvPicPr/>
          <p:nvPr/>
        </p:nvPicPr>
        <p:blipFill>
          <a:blip r:embed="rId1"/>
          <a:stretch/>
        </p:blipFill>
        <p:spPr>
          <a:xfrm>
            <a:off x="2643120" y="1714680"/>
            <a:ext cx="4143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28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99ff99"/>
                </a:solidFill>
                <a:latin typeface="Times New Roman"/>
              </a:rPr>
              <a:t>stimulates the growth of cells in shoots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but </a:t>
            </a:r>
            <a:r>
              <a:rPr b="0" lang="en-AU" sz="2800" spc="-1" strike="noStrike">
                <a:solidFill>
                  <a:srgbClr val="99ccff"/>
                </a:solidFill>
                <a:latin typeface="Times New Roman"/>
              </a:rPr>
              <a:t>inhibits the rate of growth in the cells of ro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Lie a seed on its side and the auxin settles in the lower part of the shoot and the roots due to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ich way will the roots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ich way will the shoots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3" descr="images4.jpg"/>
          <p:cNvPicPr/>
          <p:nvPr/>
        </p:nvPicPr>
        <p:blipFill>
          <a:blip r:embed="rId1"/>
          <a:stretch/>
        </p:blipFill>
        <p:spPr>
          <a:xfrm>
            <a:off x="1643040" y="1357200"/>
            <a:ext cx="2914560" cy="1852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" descr="images7.jpg"/>
          <p:cNvPicPr/>
          <p:nvPr/>
        </p:nvPicPr>
        <p:blipFill>
          <a:blip r:embed="rId2"/>
          <a:stretch/>
        </p:blipFill>
        <p:spPr>
          <a:xfrm>
            <a:off x="4857840" y="2928960"/>
            <a:ext cx="3571920" cy="18144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Flower-04.gif"/>
          <p:cNvPicPr/>
          <p:nvPr/>
        </p:nvPicPr>
        <p:blipFill>
          <a:blip r:embed="rId3"/>
          <a:stretch/>
        </p:blipFill>
        <p:spPr>
          <a:xfrm>
            <a:off x="5786280" y="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" descr="Flower-03.gif"/>
          <p:cNvPicPr/>
          <p:nvPr/>
        </p:nvPicPr>
        <p:blipFill>
          <a:blip r:embed="rId4"/>
          <a:stretch/>
        </p:blipFill>
        <p:spPr>
          <a:xfrm>
            <a:off x="1714680" y="36669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10:38Z</dcterms:created>
  <dc:creator>clarksl</dc:creator>
  <dc:description/>
  <dc:language>en-US</dc:language>
  <cp:lastModifiedBy>Lyn Clarkson</cp:lastModifiedBy>
  <dcterms:modified xsi:type="dcterms:W3CDTF">2008-07-30T01:17:33Z</dcterms:modified>
  <cp:revision>17</cp:revision>
  <dc:subject/>
  <dc:title>BEHAVIOURAL ADAPTATIONS </dc:title>
</cp:coreProperties>
</file>